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5EE-115A-4DD5-9EA0-0716CACD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100-420F-453B-90C0-09090BA4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247-60A3-4FAD-885C-FD440853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6B4-0F42-43C2-95D1-9BB95A71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E31-C275-4A6F-ABED-FAAE2803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6DB-8807-430E-94EB-3660DBDB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315-09C5-4ABB-BBE8-A6428B51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C69-487F-4819-A068-CE36C45D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D4A-70C9-4820-81BA-5294F9F9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4A7-D92F-4FFF-A1A1-A0052D67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8F1-C31A-48BB-A039-3BC72801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B8B-6433-4401-8AC1-CCBF5C52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F766-F388-4012-9A05-2C5417FA9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3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332000" y="112536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332000" y="836640"/>
            <a:ext cx="3095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1341360"/>
            <a:ext cx="215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115640" y="2781360"/>
            <a:ext cx="4316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116000" y="4508280"/>
            <a:ext cx="244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564000" y="2491920"/>
            <a:ext cx="36036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924360" y="836280"/>
            <a:ext cx="503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195640" y="1125000"/>
            <a:ext cx="17287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116000" y="2492280"/>
            <a:ext cx="2808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47640" y="2491920"/>
            <a:ext cx="2376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2781360"/>
            <a:ext cx="201636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116000" y="1341000"/>
            <a:ext cx="21600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116000" y="1125000"/>
            <a:ext cx="107964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95640" y="836640"/>
            <a:ext cx="2232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116000" y="836280"/>
            <a:ext cx="331164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47640" y="836640"/>
            <a:ext cx="288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125360"/>
            <a:ext cx="1368360" cy="338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47640" y="1125360"/>
            <a:ext cx="64800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341360"/>
            <a:ext cx="2592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1341360"/>
            <a:ext cx="2232000" cy="31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64000" y="836640"/>
            <a:ext cx="86364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440" y="4508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nt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20" y="4724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i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11960" y="6206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ñalol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6160" y="692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3800" y="11970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 Joaqu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3800" y="2565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G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5240" y="22766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9:06Z</dcterms:created>
  <dc:creator>Sebastián A. Guzmán Silva</dc:creator>
  <dc:description/>
  <dc:language>en-US</dc:language>
  <cp:lastModifiedBy>Sebastián A. Guzmán Silva</cp:lastModifiedBy>
  <dcterms:modified xsi:type="dcterms:W3CDTF">2006-10-26T18:22:58Z</dcterms:modified>
  <cp:revision>2</cp:revision>
  <dc:subject/>
  <dc:title>Diapositiva 1</dc:title>
</cp:coreProperties>
</file>